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FD2-455B-4439-9128-0A736A8C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692-CBCB-4EA6-846C-913093D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D37-BCF4-481A-885A-E1D3A385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91F-EEF8-4D89-BD41-DD66B2A7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117-AE34-4B58-852D-F4F04DC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931-BB6F-4B58-A9B8-34D27ACC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E56-1175-498C-815B-0C081A14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B9E-F8DB-41E9-9524-A38393CB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34F-705D-44A7-BE65-C55AC458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CB2-C6E7-4DE2-8A27-3F3565A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251-5BE3-4794-BE25-883CF3C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17D-99A5-45FB-B2E6-C257CEA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642-F030-485B-9184-636178E36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ória 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galmas partíció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oldás az előbbi problém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űbb címszámítás miatt célszerű a méretet 2 hatvány egész számú többszörösére választani pl. 20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lső elaprózódás helyett megjelenik a külső elaprózó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 van a garbage collectionra, ami a memóriában lévő folyamatokat egymás után rende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okozta az elaprózódá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hogy a programok nem egyforma memóriaterületet igényeltek, viszont ragaszkodtunk ahhoz, hogy folytonosan helyezzük el őke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szuk fel a memóriát egyforma és viszonylag kisméretű egység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k a lap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em folytonos elhelyezkedés miatt nyilván kell tartani, hogy az egyes részek hol helyezkednek el , e célra szolgálnak a lap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oprendszer minden egyes folyamat betöltésekor létrehoz a folyamat számára egy táblát, melyben a logikai lapokhoz hozzá rendeli a fizikai lapok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205000"/>
            <a:ext cx="18734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637000"/>
            <a:ext cx="18734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3068640"/>
            <a:ext cx="18734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500280"/>
            <a:ext cx="18734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205000"/>
            <a:ext cx="18730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637000"/>
            <a:ext cx="18730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068640"/>
            <a:ext cx="18730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500280"/>
            <a:ext cx="18730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0500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6864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50028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213372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13372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249228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249228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85264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321300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21300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357336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357336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393372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93372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29264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29264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3280" y="465300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465300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437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kra osztott folya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29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táb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537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kra osztott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2852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84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716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2421000"/>
            <a:ext cx="93636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2852640"/>
            <a:ext cx="93636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8360" y="2997000"/>
            <a:ext cx="936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936360" cy="115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 már csak azt kell megoldani, hogy hogyan találjuk meg a memóriában az egyes utasít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ogikai címet formálisan két részre oszt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rész adja meg a lapszá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odik rész meg a lapon belüli eltol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gyük a laptábla lapszámadik sorát, az ott található számérték megmutatja a lap fizikai kezdőcímé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hhez kell hozzáilleszteni a lapon belüli eltolás érték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060640"/>
            <a:ext cx="2663640" cy="504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ázisregisz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350028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350028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206064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93372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933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36572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365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79736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479736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2060640"/>
            <a:ext cx="2447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4365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4365720"/>
            <a:ext cx="2448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060640"/>
            <a:ext cx="647640" cy="647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6" idx="3"/>
            <a:endCxn id="149" idx="2"/>
          </p:cNvCxnSpPr>
          <p:nvPr/>
        </p:nvCxnSpPr>
        <p:spPr>
          <a:xfrm>
            <a:off x="3347640" y="2313000"/>
            <a:ext cx="577080" cy="7200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1"/>
            <a:endCxn id="149" idx="6"/>
          </p:cNvCxnSpPr>
          <p:nvPr/>
        </p:nvCxnSpPr>
        <p:spPr>
          <a:xfrm flipV="1" rot="10800000">
            <a:off x="4571280" y="2277000"/>
            <a:ext cx="577080" cy="10692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4"/>
            <a:endCxn id="142" idx="1"/>
          </p:cNvCxnSpPr>
          <p:nvPr/>
        </p:nvCxnSpPr>
        <p:spPr>
          <a:xfrm rot="5400000">
            <a:off x="2103480" y="2439360"/>
            <a:ext cx="1875600" cy="2413440"/>
          </a:xfrm>
          <a:prstGeom prst="bentConnector4">
            <a:avLst>
              <a:gd name="adj1" fmla="val 20138"/>
              <a:gd name="adj2" fmla="val 10945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3" idx="3"/>
            <a:endCxn id="147" idx="1"/>
          </p:cNvCxnSpPr>
          <p:nvPr/>
        </p:nvCxnSpPr>
        <p:spPr>
          <a:xfrm>
            <a:off x="3492000" y="4582800"/>
            <a:ext cx="1585080" cy="108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076720" y="155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bites 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386064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bites 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ímszámítás pél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gyük fel hogy a logikai cím 16 bites, azaz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5536 sort címezhetünk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a lap méret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048 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ből kiszámítható hogy 65536/2048 = 32 db lapu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az a lapok kiválasztására 5, míg a lapon belüli sor kiválasztására 11 bit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kai cím :00010|10110101110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pcím: 0010, eltolás 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gyük fel, hogy a laptábla 00010 (=2) sorában az 10111 (=23) számérték található, azaz a keresett memóriahely fizikai címe: 10111|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óságos memóriakezelésnek 3 fontosabb problémáj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zor címzési kapacitása is olyan nagy, amekkorát nem akarunk kiépíteni (pl. 32 bites processzor címtartománya 4G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k folyamathoz nagyon nagy memóriára van szük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gy a betöltési és felfüggesztési folyamatok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yamatokra igaz az ún. lokalitási el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 egy program adott pontján vagyunk, akkor nagy valószínűséggel, viszonylag hosszú ideig ennek a pontnak egy nem túl tág környezetében fogunk marad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ől következik, hogy nincs szükség a teljes programkódot mindig a memóriában tarta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poknak egyszerre csak egy részhalmaza van bent az operatív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irtuális tárkezelés - címszámítá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773360"/>
            <a:ext cx="2808360" cy="503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773360"/>
            <a:ext cx="2520720" cy="503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n belüli elt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64500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zdőcí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364500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zérl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177336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220500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263700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306864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350028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393372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436572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479736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522936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566100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076640"/>
            <a:ext cx="1656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07664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450864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50864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941720"/>
            <a:ext cx="1656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494172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537372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37372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p.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2708280"/>
            <a:ext cx="505080" cy="504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63" idx="1"/>
            <a:endCxn id="179" idx="1"/>
          </p:cNvCxnSpPr>
          <p:nvPr/>
        </p:nvCxnSpPr>
        <p:spPr>
          <a:xfrm flipH="1" flipV="1" rot="10800000">
            <a:off x="610920" y="2025360"/>
            <a:ext cx="289440" cy="2699280"/>
          </a:xfrm>
          <a:prstGeom prst="bentConnector3">
            <a:avLst>
              <a:gd name="adj1" fmla="val -7907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4" idx="2"/>
            <a:endCxn id="187" idx="0"/>
          </p:cNvCxnSpPr>
          <p:nvPr/>
        </p:nvCxnSpPr>
        <p:spPr>
          <a:xfrm flipH="1" rot="16200000">
            <a:off x="4572000" y="2383920"/>
            <a:ext cx="432360" cy="216720"/>
          </a:xfrm>
          <a:prstGeom prst="bentConnector3">
            <a:avLst>
              <a:gd name="adj1" fmla="val 4958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 flipV="1">
            <a:off x="1979640" y="2924280"/>
            <a:ext cx="266364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7" idx="6"/>
            <a:endCxn id="171" idx="1"/>
          </p:cNvCxnSpPr>
          <p:nvPr/>
        </p:nvCxnSpPr>
        <p:spPr>
          <a:xfrm>
            <a:off x="5148360" y="2960280"/>
            <a:ext cx="1512000" cy="756360"/>
          </a:xfrm>
          <a:prstGeom prst="bentConnector3">
            <a:avLst>
              <a:gd name="adj1" fmla="val 4998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óságo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gzített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helyezhető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lapoló módszer (over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árcsere (swapp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ndó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ozás (pa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ogikai címet most is két részre osz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szám segítségével megnézzük a laptábla megfelelő sorában a present bitet, ha azt mutatja, hogy a memóriában van, akkor hasonlóan járunk el mint az elő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zt mutatja, hogy a lap még nincs betöltve akkor azt be kell tölteni, ez a laphi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ény szerinti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őretekintő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csere algoritmu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2060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ahivatkoz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65300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 felszabadít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5516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2060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141720"/>
            <a:ext cx="3168720" cy="431640"/>
          </a:xfrm>
          <a:prstGeom prst="flowChartPreparation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ában v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4076640"/>
            <a:ext cx="3168720" cy="432000"/>
          </a:xfrm>
          <a:prstGeom prst="flowChartPreparation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üres hel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199" idx="0"/>
          </p:cNvCxnSpPr>
          <p:nvPr/>
        </p:nvCxnSpPr>
        <p:spPr>
          <a:xfrm>
            <a:off x="2376000" y="2565000"/>
            <a:ext cx="35640" cy="57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9" idx="2"/>
            <a:endCxn id="200" idx="0"/>
          </p:cNvCxnSpPr>
          <p:nvPr/>
        </p:nvCxnSpPr>
        <p:spPr>
          <a:xfrm>
            <a:off x="2410920" y="3573360"/>
            <a:ext cx="1080" cy="5040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2"/>
            <a:endCxn id="197" idx="0"/>
          </p:cNvCxnSpPr>
          <p:nvPr/>
        </p:nvCxnSpPr>
        <p:spPr>
          <a:xfrm flipH="1">
            <a:off x="2375640" y="4508640"/>
            <a:ext cx="35640" cy="10087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3"/>
          </p:cNvCxnSpPr>
          <p:nvPr/>
        </p:nvCxnSpPr>
        <p:spPr>
          <a:xfrm>
            <a:off x="3995640" y="3357360"/>
            <a:ext cx="266472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endCxn id="198" idx="2"/>
          </p:cNvCxnSpPr>
          <p:nvPr/>
        </p:nvCxnSpPr>
        <p:spPr>
          <a:xfrm flipV="1" rot="16200000">
            <a:off x="6245280" y="2943360"/>
            <a:ext cx="793080" cy="35640"/>
          </a:xfrm>
          <a:prstGeom prst="bentConnector3">
            <a:avLst>
              <a:gd name="adj1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7" idx="2"/>
          </p:cNvCxnSpPr>
          <p:nvPr/>
        </p:nvCxnSpPr>
        <p:spPr>
          <a:xfrm flipH="1" flipV="1" rot="5400000">
            <a:off x="3186000" y="2547360"/>
            <a:ext cx="2664360" cy="4284000"/>
          </a:xfrm>
          <a:prstGeom prst="bentConnector4">
            <a:avLst>
              <a:gd name="adj1" fmla="val -8581"/>
              <a:gd name="adj2" fmla="val 14939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196" idx="0"/>
          </p:cNvCxnSpPr>
          <p:nvPr/>
        </p:nvCxnSpPr>
        <p:spPr>
          <a:xfrm>
            <a:off x="3995280" y="4292280"/>
            <a:ext cx="2629800" cy="36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6" idx="2"/>
          </p:cNvCxnSpPr>
          <p:nvPr/>
        </p:nvCxnSpPr>
        <p:spPr>
          <a:xfrm flipV="1" rot="16200000">
            <a:off x="4445640" y="2977920"/>
            <a:ext cx="144720" cy="4214160"/>
          </a:xfrm>
          <a:prstGeom prst="bentConnector4">
            <a:avLst>
              <a:gd name="adj1" fmla="val -158603"/>
              <a:gd name="adj2" fmla="val 6664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392436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3716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n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162864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1484280"/>
            <a:ext cx="64764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kiosztási elv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205000"/>
            <a:ext cx="237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YEN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357720"/>
            <a:ext cx="237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ÁN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4724280"/>
            <a:ext cx="237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3141720"/>
            <a:ext cx="208764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zámítógép felépítés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3141720"/>
            <a:ext cx="208764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memória méret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34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csere stratégiá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ális straté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bb jött előbb m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régebben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odik esé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anában nem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z optimális stratégia (OPT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 a lapot kell lecserélni, amelyre a legkésőbb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lgoritmus nagy hibája, hogy előre kellene tudni, hogy későbbiekben milyen sorrendben fogunk a lapokra hivat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yakorlatban megvalósíthata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Az alábbi példa egy 9 lapos folyamatról szól az op rendszer 3 keretet biztosít. A folyamat a 6 8 3 8 6 0 3 6 3 5 3 6 sorrendben hivatkozik lapjaira, induláskor egy lap sincs bent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8197920" cy="3557520"/>
        </p:xfrm>
        <a:graphic>
          <a:graphicData uri="http://schemas.openxmlformats.org/drawingml/2006/table">
            <a:tbl>
              <a:tblPr/>
              <a:tblGrid>
                <a:gridCol w="137808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 legrégebben van ben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közelítőleg olyan hatékony mint az optimá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frissen behozott lap sorszáma bekerül a FIFO sor végére, ezáltal a már bentlévő lapsorszámok eggyel előre lépnek, és a sor másik végén kipotyog a legrégebbi lap sor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382760"/>
                <a:gridCol w="571320"/>
                <a:gridCol w="569880"/>
                <a:gridCol w="571680"/>
                <a:gridCol w="569880"/>
                <a:gridCol w="569880"/>
                <a:gridCol w="571680"/>
                <a:gridCol w="569880"/>
                <a:gridCol w="569880"/>
                <a:gridCol w="571320"/>
                <a:gridCol w="569880"/>
                <a:gridCol w="571680"/>
                <a:gridCol w="5698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 a lapot kell lecserélni, amelyre legrégebben hivatkozott a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es hardver támogatás kell a nyilvántartás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vés laphibát eredményez, de nagy adminisztrációs ter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382760"/>
                <a:gridCol w="571320"/>
                <a:gridCol w="569880"/>
                <a:gridCol w="571680"/>
                <a:gridCol w="569880"/>
                <a:gridCol w="569880"/>
                <a:gridCol w="571680"/>
                <a:gridCol w="569880"/>
                <a:gridCol w="569880"/>
                <a:gridCol w="571320"/>
                <a:gridCol w="569880"/>
                <a:gridCol w="571680"/>
                <a:gridCol w="5698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Rögzitett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míg egy számítógépen csak egy felhasználó dolgozhatott és csak egyetlen kicsi programot futtathatott, a memória kezelés nem volt g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rendszer állandó területen helyezkedett el a program meg használhatta a maradék memór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rvédelem: azt kell figyelni, hogy egy adott, az ún. határregiszterben tárolt címnél kisebbet a felhasználói program ne érhesse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Második esély (Second Chance – SC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ljárás a FIFO elven alapul, egy kis kiegészíté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laphoz helyezzünk el egy ún. hivatkozás bitet, amelyet ha a lapot használjuk, automatikusan 1-esbe állít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hiba esetén ha a sor elején lévő lap hiv. bitje 1 akkr tegyük a sor végére 0 –ás bittel, és dobjuk ki a követk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stanában nem használ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LRU módszer enyhített, könnyebben megvalósítható vált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csere esetén, ha lehetséges akkor azok közül kell választani, melyek a használt bitje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védelem, szegmentá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árvédelem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rogramozott környezetben szükség van arra, hogy az egyes folyamatok egymás memória területeit ne zavarják, még hiba esetén 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 van egy jól működő védelmi rendsz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se jó , ha teljesen el vannak szeparálva egymástól a folyamatok, mert akkor nem tudnak együttműködni , adatot cseré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árvédel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édelmi rendszernek meg kell akadályoznia a rosszakaratú hozzáférés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édelemnek 3 szintjét szoktuk megkülönböztet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egy folyamat logikai egységeit egymás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a felhasználói folyamatokat egymástól, de biztosítani kell közöttük az igényelt kommunikáció lehetőség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az operációs rendszert a felhasználói folyamatok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ikus programhiba, amikor rosszul használják a veremtárat (több be, mint 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másik veszélyes helyzet, ha ugróutasításban rossz címet adunk meg és az adatokat kezdjük el végrehajtani. Ennek fordítottja is ros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ogyan lehet védekezni elle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gramok szegmentálásá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kódszegmens az utasítások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1 vagy több adatszegmens és egy stackszeg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ndjuk meg az oprendszernek, hogy milyen szegmenseink vannak és kérjük meg, hogy ellenőrizze menet közben, hogy szegmensen belül maradunk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operációs rendszer felé támasztott követelmén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finiált szegmensek ismerete (hol vannak, típusuk, méretü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ilvántartáshoz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zegmensleíró tá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onló a laptáblához, annyi sora van ahány szegmenset definiált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en sor tartalmazza a kezdőcímet, a hosszt, a típust és néhány védelmi bi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lyamatok védelme egymástó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 kell védenünk a folyamatok memória területeit, de biztosítanunk kell a szükséges folyamatközti kommunikáció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 egy darab szegmensleíró táblánk legyen, hanem folyamatonként legyen egy-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r csak a kommunikációt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áljuk közös területre a két folyamat adatszegmensét , és akkor ők tudnak kommunikálni egymás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lyamatok védelme egymástó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operációs rendszer szolgáltatásait, használják a felhasználói folyam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létrehoznak egy közös ún. globális leíró táblát (GDT) a lokális leírótáblán felül (L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éha a megszakítási rutinok számára is külön táblát hoznak létre (I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korlát, amibe az előző címzés ütközött, az volt, hogy az oprendszer mérete nem volt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iatt kezdetben állandóan módosítani kellett a programozónak a programjai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egyszerű: nem követlen fizikai címeket generált a program, hanem relatív cím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mogatásához találták ki az ún. bázisregiszt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 regiszter tartalmazta a program kezdő címét a bázis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z operációs rendszer védelme - prioritáso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operációs rendszer is 1 vagy több folyamat, így az előző módszerrel megoldható az Ő védelm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a rendszer folyamatoknak biztosítani kell speciális jogokat is, pl. tudja módosítani más folyamatok leírótábl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oldás: minden folyamathoz egy prioritási szintet kell rendel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áblát módosítani kell egy új mezővel, hogy legalább milyen prioritási szinttel kell rendelkeznie, hogy egy adott szegmens haszná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ímszámítás gyorsítása szegmentálássa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gmentálás bevezetésével hasonló probléma merül fel mint a lapozásn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az a memória hozzáférési ideje a legalább a kétszeresére n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vel a szegmensek logikailag összetartozó dolgokat tartalmaznak, ezért itt a lokalitási elv sokkal erőse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ll egy kódszegmens regiszter amelyben az éppen futó folyamat kódszegmensének az adatai vannak(kezdőcím,hossz,védelmi bit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stack szegmens regiszter és 1 vagy néhány (2 vagy 4) adatszegmens regisz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ímszámítás gyorsítása szegmentálássa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címszámításnál hasonlóan járunk el mint a lapozás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árhuzamosan elkezdjük a címszámítást a leírótáblán keresztül, illetve megnézzük a hozzá tartozó szegmensregiszt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egmensen belüli szoros logikai összetartozás miatt a találati arány gyakorlatilag 100%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Összetett memória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latban a szegmentálást és a lapszervezésű virtuális tárkezelést együttesen alkalmazz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zor által kiadott logikai cím előbb a szegmentáló egységbe kerül, majd ha engedélyezett akkor a szegmensfordítás kimenete lesz a lapozó egység bemen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lineáris cím, végül a lapozó egység kimenete adja meg a keresett fizikai 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 már a processzorokban egy komplett vezérlő egység is megtalálható (MM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Gyorstárak – cache memóriá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mória hozzáférést tovább lehet gyorsítani úgy, hogy a proc és az operatív memória közé egy viszonylag kis méretű, de nagyon gyors tárat teszü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a memória legutoljára használt részeinek és környezetének másolatát tartalma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vezérlése hasonló az operatív tér és a virtuális memória viszony vezérléséh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yorsítótár-elv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gyakrabban használt adatok legyenek a leghamarabb elérhető hel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2060640"/>
            <a:ext cx="1943280" cy="352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221000"/>
            <a:ext cx="1943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060640"/>
            <a:ext cx="19432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ázisregisz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365720"/>
            <a:ext cx="19432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3141720"/>
            <a:ext cx="936720" cy="9349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3"/>
            <a:endCxn id="54" idx="0"/>
          </p:cNvCxnSpPr>
          <p:nvPr/>
        </p:nvCxnSpPr>
        <p:spPr>
          <a:xfrm>
            <a:off x="3058920" y="2421000"/>
            <a:ext cx="973800" cy="7214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3"/>
            <a:endCxn id="54" idx="4"/>
          </p:cNvCxnSpPr>
          <p:nvPr/>
        </p:nvCxnSpPr>
        <p:spPr>
          <a:xfrm flipV="1">
            <a:off x="3058920" y="4076280"/>
            <a:ext cx="973800" cy="6501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1" idx="1"/>
          </p:cNvCxnSpPr>
          <p:nvPr/>
        </p:nvCxnSpPr>
        <p:spPr>
          <a:xfrm>
            <a:off x="4500360" y="3610080"/>
            <a:ext cx="1224360" cy="972000"/>
          </a:xfrm>
          <a:prstGeom prst="bentConnector3">
            <a:avLst>
              <a:gd name="adj1" fmla="val 49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4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ddigi programok kicsik voltak és teljes egészükben befértek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agyobb programok használatához úgy kellett a feladatokat szervezni, hogy olyan blokkokból álljon melyek elférnek a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lyen programokhoz az oprendszer semmiféle támogatást nem ad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ttértár először vesz rész a program futásában aktív szereplő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133720"/>
            <a:ext cx="158436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2133720"/>
            <a:ext cx="158436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133720"/>
            <a:ext cx="158400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4005360"/>
            <a:ext cx="158436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05360"/>
            <a:ext cx="158436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005360"/>
            <a:ext cx="158400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58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781360"/>
            <a:ext cx="1584360" cy="647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997360"/>
            <a:ext cx="1584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2421000"/>
            <a:ext cx="1584360" cy="100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5013360"/>
            <a:ext cx="151272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5300640"/>
            <a:ext cx="151272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805360"/>
            <a:ext cx="151272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Tárcsere (swapp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övetkező kihívás az amikor több felhasználó programjának a futtatását kell biztosítani, egymástól független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felhasználó kap egy időszeletet, majd ha az lejárt akkor az oprendszer az egész memória területet a háttértárra másolja és onnan betölti a következő felhasználóhoz tartozó memória tartal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swapping, a keletkező állományt cserefájlnak (swap file) nevezz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ütemezéshez hasonlóan itt sem mindegy mekkora az idősz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llandó partíció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 történik akkor ha az éppen futó folyamat várakozni kényszerü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állandóan több folyamat tartózkodhatna a memóriában, egyszerű lenne a dolog csak át kell kapcsolni a másik program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 osszuk fel a memóriát egymástól független részekre partíciók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kkora legyen ez a partíció, ha túl kicsi akkor nem biztos hogy belefér a program, ha túl nagy akkor sok kihasználatlan terület leh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 belső elaprózódásnak (internal fragmen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moly feladat hárul az oprendszerek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öntést kell hoznia, hogy a futásra váró programok közül melyik kapjon meg egy felszabaduló partíció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CFS esetén fenn áll a veszélye annak, hogy kicsi program nagy partíciót foglal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8:12:37Z</dcterms:created>
  <dc:creator>Nagymáté Péter</dc:creator>
  <dc:description/>
  <dc:language>en-US</dc:language>
  <cp:lastModifiedBy>Nagymáté Péter</cp:lastModifiedBy>
  <dcterms:modified xsi:type="dcterms:W3CDTF">2004-04-29T10:26:35Z</dcterms:modified>
  <cp:revision>11</cp:revision>
  <dc:subject/>
  <dc:title>Operációs rendszerek</dc:title>
</cp:coreProperties>
</file>